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AF36-1D13-4A39-8466-1465040DC46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147E-5117-46F9-84D7-91A50749A103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nnect to cd and hand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F5B6-68A4-44DD-8130-CF769659BC27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Oda hand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D95E-C5AF-42F6-8B16-BD871BC7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DE80-F03F-4CD1-9F82-0A46F586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EB99-FE6E-4A83-B770-32F56A579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C98D-511C-4AD8-AB09-6F8F17D2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731F-C8AC-4E18-9BC0-09EA469B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BA9C-465E-4B9E-82B6-85E9253E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A4AB-8739-4521-9994-58E9A755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C99C-4A8B-41B3-B71F-BD4CC7BC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779C-ECEA-405F-A6FD-0D958677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8F5E-D214-471E-80D2-8A66C65B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057A-F0A6-45EE-98DF-BA50B956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AA07-AB0C-4475-9BB0-FBD68A7D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98F7-B307-47E1-9B4F-CEF4A968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B4FC-D852-476F-9F35-0F110749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24BB-B423-4AA1-90EA-1F1A9F13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962C-F5AD-46BD-B979-59FA90284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D85A-962B-49BD-BD5A-BE4D4D3B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F002-8ACB-4749-B844-90109368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0ADE-AD98-4600-9400-E2EA24A0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50E4-AF20-45DF-AF7E-8FEDF052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DC65-957B-4339-8E4A-0524EC45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1A31-3FDC-44B0-A18F-755B464A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3917-4B30-4D84-B1CC-878DD369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374F-AD7C-45D1-98E7-2598A199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4538520" y="6746760"/>
            <a:ext cx="4332600" cy="65160"/>
            <a:chOff x="4538520" y="6746760"/>
            <a:chExt cx="4332600" cy="65160"/>
          </a:xfrm>
        </p:grpSpPr>
        <p:sp>
          <p:nvSpPr>
            <p:cNvPr id="3" name="Oval 5"/>
            <p:cNvSpPr/>
            <p:nvPr/>
          </p:nvSpPr>
          <p:spPr>
            <a:xfrm>
              <a:off x="4538520" y="6746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Oval 6"/>
            <p:cNvSpPr/>
            <p:nvPr/>
          </p:nvSpPr>
          <p:spPr>
            <a:xfrm>
              <a:off x="514836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575784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636732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697716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758664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196120" y="6746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80596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804960" y="117360"/>
            <a:ext cx="66600" cy="522360"/>
            <a:chOff x="804960" y="117360"/>
            <a:chExt cx="66600" cy="522360"/>
          </a:xfrm>
        </p:grpSpPr>
        <p:sp>
          <p:nvSpPr>
            <p:cNvPr id="12" name="Oval 14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1B08-E1BC-47C9-AB50-32BB28BF1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Rectangle 3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" name="Group 5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0" name="Oval 6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Oval 7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Oval 8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Oval 9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Oval 10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Oval 11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Oval 12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Oval 13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Group 14"/>
            <p:cNvGrpSpPr/>
            <p:nvPr/>
          </p:nvGrpSpPr>
          <p:grpSpPr>
            <a:xfrm>
              <a:off x="880920" y="117360"/>
              <a:ext cx="66960" cy="2124360"/>
              <a:chOff x="880920" y="117360"/>
              <a:chExt cx="66960" cy="2124360"/>
            </a:xfrm>
          </p:grpSpPr>
          <p:sp>
            <p:nvSpPr>
              <p:cNvPr id="69" name="Oval 15"/>
              <p:cNvSpPr/>
              <p:nvPr/>
            </p:nvSpPr>
            <p:spPr>
              <a:xfrm>
                <a:off x="880920" y="117360"/>
                <a:ext cx="66960" cy="669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Oval 16"/>
              <p:cNvSpPr/>
              <p:nvPr/>
            </p:nvSpPr>
            <p:spPr>
              <a:xfrm>
                <a:off x="880920" y="347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Oval 17"/>
              <p:cNvSpPr/>
              <p:nvPr/>
            </p:nvSpPr>
            <p:spPr>
              <a:xfrm>
                <a:off x="880920" y="5745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Oval 18"/>
              <p:cNvSpPr/>
              <p:nvPr/>
            </p:nvSpPr>
            <p:spPr>
              <a:xfrm>
                <a:off x="880920" y="10335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Oval 19"/>
              <p:cNvSpPr/>
              <p:nvPr/>
            </p:nvSpPr>
            <p:spPr>
              <a:xfrm>
                <a:off x="880920" y="1260360"/>
                <a:ext cx="66960" cy="669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Oval 20"/>
              <p:cNvSpPr/>
              <p:nvPr/>
            </p:nvSpPr>
            <p:spPr>
              <a:xfrm>
                <a:off x="880920" y="1490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Oval 21"/>
              <p:cNvSpPr/>
              <p:nvPr/>
            </p:nvSpPr>
            <p:spPr>
              <a:xfrm>
                <a:off x="880920" y="17175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Oval 22"/>
              <p:cNvSpPr/>
              <p:nvPr/>
            </p:nvSpPr>
            <p:spPr>
              <a:xfrm>
                <a:off x="880920" y="1947960"/>
                <a:ext cx="66960" cy="633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Oval 23"/>
              <p:cNvSpPr/>
              <p:nvPr/>
            </p:nvSpPr>
            <p:spPr>
              <a:xfrm>
                <a:off x="880920" y="21765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Oval 24"/>
              <p:cNvSpPr/>
              <p:nvPr/>
            </p:nvSpPr>
            <p:spPr>
              <a:xfrm>
                <a:off x="880920" y="804960"/>
                <a:ext cx="66960" cy="633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Group 25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80" name="Freeform 26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Freeform 27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Freeform 28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2FEB-2E98-446E-BBBF-3F30B40237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Ode to an O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057400" y="35809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artha Pero, NB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udson City Schoo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udson, Oh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erom@hudson.ed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cbcbcb"/>
                </a:solidFill>
                <a:latin typeface="Times New Roman"/>
              </a:rPr>
              <a:t>The assignment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Read the real od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Compare and contrast the theme, metaphors and imager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_x000e_sc0002dc91.jpg                                                 0013E990_x000c_Macintosh HD                   C3E30EBA:"/>
          <p:cNvPicPr/>
          <p:nvPr/>
        </p:nvPicPr>
        <p:blipFill>
          <a:blip r:embed="rId1"/>
          <a:stretch/>
        </p:blipFill>
        <p:spPr>
          <a:xfrm>
            <a:off x="0" y="228600"/>
            <a:ext cx="8839080" cy="61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The assign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Using Audacity or Garageband, record the od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Odapero.mp3" descr=""/>
          <p:cNvPicPr/>
          <p:nvPr/>
        </p:nvPicPr>
        <p:blipFill>
          <a:blip r:embed="rId1"/>
          <a:stretch/>
        </p:blipFill>
        <p:spPr>
          <a:xfrm>
            <a:off x="4038480" y="45720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Audacit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Free downloa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Ma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ttp://audacity.sourceforge.net/download/ma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P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ttp://audacity.sourceforge.net/download/wind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Lame file for MP3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PC  and  Mac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http://audacity.sourceforge.net/help/faq?s=install&amp;item=lame-mp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This is necessary to make MP3 files.  Please note to where it is downloading.  The first time you use it, you will need to find it to make a link.  After that, you can forget about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What next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Publish on line or on your Webpag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Make a booklet of the odes to give to each clas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¡Gracias por venir!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¿Pregunta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Poetry in High Schoo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imes New Roman"/>
              </a:rPr>
              <a:t>Difficult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imes New Roman"/>
              </a:rPr>
              <a:t>Fun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imes New Roman"/>
              </a:rPr>
              <a:t>Interesting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etr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use our book and as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What do you do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Listen and read Oda al tomate por Pablo Nerud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4368960" y="3225960"/>
            <a:ext cx="406080" cy="406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4368960" y="3225960"/>
            <a:ext cx="406080" cy="40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2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72000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72000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What do you do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Get them thinking about the theme, metaphors, imagery, and sty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See handou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_x000e_sc01e773b6.jpg                                                 000AA47C_x000c_Macintosh HD                   C3E30EBA:"/>
          <p:cNvPicPr/>
          <p:nvPr/>
        </p:nvPicPr>
        <p:blipFill>
          <a:blip r:embed="rId1"/>
          <a:stretch/>
        </p:blipFill>
        <p:spPr>
          <a:xfrm>
            <a:off x="2295360" y="0"/>
            <a:ext cx="445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What do you do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Do one together, then work in pairs to find more and fill in the handou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Class discusi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The assign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Students choose an oda tit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spsu.edu/sis/nuhfer-halten/webconcordances/neruda/nerudafrequency.txt.WebConcordance/c159.htm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The assign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Fill in the previous worksheet for their od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the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metaph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mage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sty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3.  Write the oda and illustrate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5:50:00Z</dcterms:created>
  <dc:creator>Martha</dc:creator>
  <dc:description/>
  <dc:language>en-US</dc:language>
  <cp:lastModifiedBy>Pero, Martha</cp:lastModifiedBy>
  <cp:lastPrinted>2010-02-26T18:16:51Z</cp:lastPrinted>
  <dcterms:modified xsi:type="dcterms:W3CDTF">2013-03-07T15:57:12Z</dcterms:modified>
  <cp:revision>16</cp:revision>
  <dc:subject/>
  <dc:title>Ode to an Ode</dc:title>
</cp:coreProperties>
</file>