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653B2-C354-4397-8532-45C3E870342E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3BC46-3B6C-4BA1-87D8-B9BC6936D147}" type="slidenum"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onnect to cd and hand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8C72C-6800-4BDE-83D8-945B6E5EEBCA}" type="slidenum"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Oda hand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6A55A-2CEA-4A5A-8AE4-9C14B175A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65022-B32B-44E4-9770-53365E76A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3A84E-951C-4E1D-906A-8C6980FA1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53C3B-5475-46F9-978A-964506B65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4472E-0EB8-4D0B-833B-CBA398DE4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982A5-C190-41C7-B78C-22B9C5F62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E86E5-DDDC-4BC8-B254-202C4A8C1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13A16-1771-4E89-BAF0-48726FEFF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892E3-166E-4A00-933C-2CB3EC305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59150-3C32-4388-AC50-8FE94F55C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B4FE6-FFC2-4BD2-982D-7E7D41129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48E57-CD6C-48E8-AE3F-556F85978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28E00-BB62-436D-83E6-7164C2E3E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38611-B847-4849-8FA7-DC942D190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6EB9C-6EBB-4AF9-BB7A-A94A87468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3F76B-C34F-4400-A57C-8D5CEACC5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51801-EFAF-497B-8B93-921014EFF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040E8-AFEE-44F8-B95B-A291316DF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7DDE2-2281-468C-865A-7D3090972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B78D5-4AF0-4196-83B6-0A6AA9698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2274C-3205-4305-A6A1-06C8EF284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9B207-EBFA-4EB8-B85A-ADECEA745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4392A-5807-4ABA-BA9E-425FCF717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FBA0D-4E97-455E-B29A-27A9C1C1A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4538520" y="6746760"/>
            <a:ext cx="4332600" cy="65160"/>
            <a:chOff x="4538520" y="6746760"/>
            <a:chExt cx="4332600" cy="65160"/>
          </a:xfrm>
        </p:grpSpPr>
        <p:sp>
          <p:nvSpPr>
            <p:cNvPr id="3" name="Oval 5"/>
            <p:cNvSpPr/>
            <p:nvPr/>
          </p:nvSpPr>
          <p:spPr>
            <a:xfrm>
              <a:off x="4538520" y="6746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Oval 6"/>
            <p:cNvSpPr/>
            <p:nvPr/>
          </p:nvSpPr>
          <p:spPr>
            <a:xfrm>
              <a:off x="5148360" y="6746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5757840" y="6746760"/>
              <a:ext cx="651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6367320" y="6746760"/>
              <a:ext cx="651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6977160" y="6746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7586640" y="6746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196120" y="6746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805960" y="6746760"/>
              <a:ext cx="651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" name="Group 13"/>
          <p:cNvGrpSpPr/>
          <p:nvPr/>
        </p:nvGrpSpPr>
        <p:grpSpPr>
          <a:xfrm>
            <a:off x="804960" y="117360"/>
            <a:ext cx="66600" cy="522360"/>
            <a:chOff x="804960" y="117360"/>
            <a:chExt cx="66600" cy="522360"/>
          </a:xfrm>
        </p:grpSpPr>
        <p:sp>
          <p:nvSpPr>
            <p:cNvPr id="12" name="Oval 14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BD220-152B-4C52-BB9A-1E817B1D4F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Group 2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Rectangle 3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Rectangle 4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9" name="Group 5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0" name="Oval 6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" name="Oval 7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" name="Oval 8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" name="Oval 9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" name="Oval 10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" name="Oval 11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" name="Oval 12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" name="Oval 13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8" name="Group 14"/>
            <p:cNvGrpSpPr/>
            <p:nvPr/>
          </p:nvGrpSpPr>
          <p:grpSpPr>
            <a:xfrm>
              <a:off x="880920" y="117360"/>
              <a:ext cx="66960" cy="2124360"/>
              <a:chOff x="880920" y="117360"/>
              <a:chExt cx="66960" cy="2124360"/>
            </a:xfrm>
          </p:grpSpPr>
          <p:sp>
            <p:nvSpPr>
              <p:cNvPr id="69" name="Oval 15"/>
              <p:cNvSpPr/>
              <p:nvPr/>
            </p:nvSpPr>
            <p:spPr>
              <a:xfrm>
                <a:off x="880920" y="117360"/>
                <a:ext cx="66960" cy="669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Oval 16"/>
              <p:cNvSpPr/>
              <p:nvPr/>
            </p:nvSpPr>
            <p:spPr>
              <a:xfrm>
                <a:off x="880920" y="347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Oval 17"/>
              <p:cNvSpPr/>
              <p:nvPr/>
            </p:nvSpPr>
            <p:spPr>
              <a:xfrm>
                <a:off x="880920" y="5745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Oval 18"/>
              <p:cNvSpPr/>
              <p:nvPr/>
            </p:nvSpPr>
            <p:spPr>
              <a:xfrm>
                <a:off x="880920" y="10335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Oval 19"/>
              <p:cNvSpPr/>
              <p:nvPr/>
            </p:nvSpPr>
            <p:spPr>
              <a:xfrm>
                <a:off x="880920" y="1260360"/>
                <a:ext cx="66960" cy="669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Oval 20"/>
              <p:cNvSpPr/>
              <p:nvPr/>
            </p:nvSpPr>
            <p:spPr>
              <a:xfrm>
                <a:off x="880920" y="1490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Oval 21"/>
              <p:cNvSpPr/>
              <p:nvPr/>
            </p:nvSpPr>
            <p:spPr>
              <a:xfrm>
                <a:off x="880920" y="17175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Oval 22"/>
              <p:cNvSpPr/>
              <p:nvPr/>
            </p:nvSpPr>
            <p:spPr>
              <a:xfrm>
                <a:off x="880920" y="1947960"/>
                <a:ext cx="66960" cy="633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Oval 23"/>
              <p:cNvSpPr/>
              <p:nvPr/>
            </p:nvSpPr>
            <p:spPr>
              <a:xfrm>
                <a:off x="880920" y="21765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Oval 24"/>
              <p:cNvSpPr/>
              <p:nvPr/>
            </p:nvSpPr>
            <p:spPr>
              <a:xfrm>
                <a:off x="880920" y="804960"/>
                <a:ext cx="66960" cy="633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79" name="Group 25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80" name="Freeform 26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Freeform 27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Freeform 28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83055-5FAE-4310-9F71-689144458CA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bcbcb"/>
                </a:solidFill>
                <a:latin typeface="Times New Roman"/>
              </a:rPr>
              <a:t>Ode to an Ode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2057400" y="3580920"/>
            <a:ext cx="6400800" cy="259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Martha Pero, NBC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Hudson City Schoo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Hudson, Ohi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perom@hudson.ed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400" spc="-1" strike="noStrike">
                <a:solidFill>
                  <a:srgbClr val="cbcbcb"/>
                </a:solidFill>
                <a:latin typeface="Times New Roman"/>
              </a:rPr>
              <a:t>The assignment</a:t>
            </a:r>
            <a:endParaRPr b="0" lang="en-US" sz="5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1001"/>
              </a:spcBef>
              <a:buClr>
                <a:srgbClr val="ffffff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Times New Roman"/>
              </a:rPr>
              <a:t>Read the real oda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1001"/>
              </a:spcBef>
              <a:buClr>
                <a:srgbClr val="ffffff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Times New Roman"/>
              </a:rPr>
              <a:t>Compare and contrast the theme, metaphors and imagery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_x000e_sc0002dc91.jpg                                                 0013E990_x000c_Macintosh HD                   C3E30EBA:"/>
          <p:cNvPicPr/>
          <p:nvPr/>
        </p:nvPicPr>
        <p:blipFill>
          <a:blip r:embed="rId1"/>
          <a:stretch/>
        </p:blipFill>
        <p:spPr>
          <a:xfrm>
            <a:off x="0" y="228600"/>
            <a:ext cx="8839080" cy="618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bcbcb"/>
                </a:solidFill>
                <a:latin typeface="Times New Roman"/>
              </a:rPr>
              <a:t>The assignmen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1001"/>
              </a:spcBef>
              <a:buClr>
                <a:srgbClr val="ffffff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Times New Roman"/>
              </a:rPr>
              <a:t>Using Audacity or Garageband, record the oda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5" name="Odapero.mp3" descr=""/>
          <p:cNvPicPr/>
          <p:nvPr/>
        </p:nvPicPr>
        <p:blipFill>
          <a:blip r:embed="rId1"/>
          <a:stretch/>
        </p:blipFill>
        <p:spPr>
          <a:xfrm>
            <a:off x="4038480" y="4572000"/>
            <a:ext cx="406440" cy="40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restart="whenNotActive" nodeType="interactiveSeq" fill="hold">
                <p:stCondLst>
                  <p:cond evt="onClick">
                    <p:tgtEl>
                      <p:spTgt spid="155"/>
                    </p:tgtEl>
                  </p:cond>
                </p:stCondLst>
                <p:childTnLst>
                  <p:par>
                    <p:cTn id="79" nodeType="clickEffect" fill="hold">
                      <p:stCondLst>
                        <p:cond evt="onClick">
                          <p:tgtEl>
                            <p:spTgt spid="155"/>
                          </p:tgtEl>
                        </p:cond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2" dur="1" fill="hold"/>
                                        <p:tgtEl>
                                          <p:spTgt spid="1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bcbcb"/>
                </a:solidFill>
                <a:latin typeface="Times New Roman"/>
              </a:rPr>
              <a:t>Audacity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Times New Roman"/>
              </a:rPr>
              <a:t>Free download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Times New Roman"/>
              </a:rPr>
              <a:t>Mac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http://audacity.sourceforge.net/download/ma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Times New Roman"/>
              </a:rPr>
              <a:t>PC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http://audacity.sourceforge.net/download/window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bcbcb"/>
                </a:solidFill>
                <a:latin typeface="Times New Roman"/>
              </a:rPr>
              <a:t>Lame file for MP3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Times New Roman"/>
              </a:rPr>
              <a:t>PC  and  Mac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http://audacity.sourceforge.net/help/faq?s=install&amp;item=lame-mp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Times New Roman"/>
              </a:rPr>
              <a:t>This is necessary to make MP3 files.  Please note to where it is downloading.  The first time you use it, you will need to find it to make a link.  After that, you can forget about it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bcbcb"/>
                </a:solidFill>
                <a:latin typeface="Times New Roman"/>
              </a:rPr>
              <a:t>What next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100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Times New Roman"/>
              </a:rPr>
              <a:t>Publish on line or on your Webpage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100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Times New Roman"/>
              </a:rPr>
              <a:t>Make a booklet of the odes to give to each class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bcbcb"/>
                </a:solidFill>
                <a:latin typeface="Times New Roman"/>
              </a:rPr>
              <a:t>¡Gracias por venir!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0574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Times New Roman"/>
              </a:rPr>
              <a:t>¿Preguntas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bcbcb"/>
                </a:solidFill>
                <a:latin typeface="Times New Roman"/>
              </a:rPr>
              <a:t>Poetry in High Schoo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ffffff"/>
                </a:solidFill>
                <a:latin typeface="Times New Roman"/>
              </a:rPr>
              <a:t>Difficult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ffffff"/>
                </a:solidFill>
                <a:latin typeface="Times New Roman"/>
              </a:rPr>
              <a:t>Fun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ffffff"/>
                </a:solidFill>
                <a:latin typeface="Times New Roman"/>
              </a:rPr>
              <a:t>Interesting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etry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use our book and assig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bcbcb"/>
                </a:solidFill>
                <a:latin typeface="Times New Roman"/>
              </a:rPr>
              <a:t>What do you do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286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100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Times New Roman"/>
              </a:rPr>
              <a:t>Listen and read Oda al tomate por Pablo Neruda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9" name="Picture 4" descr=""/>
          <p:cNvPicPr/>
          <p:nvPr/>
        </p:nvPicPr>
        <p:blipFill>
          <a:blip r:embed="rId1"/>
          <a:stretch/>
        </p:blipFill>
        <p:spPr>
          <a:xfrm>
            <a:off x="4368960" y="3225960"/>
            <a:ext cx="406080" cy="40608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5" descr=""/>
          <p:cNvPicPr/>
          <p:nvPr/>
        </p:nvPicPr>
        <p:blipFill>
          <a:blip r:embed="rId2"/>
          <a:stretch/>
        </p:blipFill>
        <p:spPr>
          <a:xfrm>
            <a:off x="4368960" y="3225960"/>
            <a:ext cx="406080" cy="40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" restart="whenNotActive" nodeType="interactiveSeq" fill="hold">
                <p:stCondLst>
                  <p:cond evt="onClick">
                    <p:tgtEl>
                      <p:spTgt spid="139"/>
                    </p:tgtEl>
                  </p:cond>
                </p:stCondLst>
                <p:childTnLst>
                  <p:par>
                    <p:cTn id="22" nodeType="clickEffect" fill="hold">
                      <p:stCondLst>
                        <p:cond evt="onClick">
                          <p:tgtEl>
                            <p:spTgt spid="139"/>
                          </p:tgtEl>
                        </p:cond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" dur="172000" fill="hold"/>
                                        <p:tgtEl>
                                          <p:spTgt spid="13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" restart="whenNotActive" nodeType="interactiveSeq" fill="hold">
                <p:stCondLst>
                  <p:cond evt="onClick">
                    <p:tgtEl>
                      <p:spTgt spid="140"/>
                    </p:tgtEl>
                  </p:cond>
                </p:stCondLst>
                <p:childTnLst>
                  <p:par>
                    <p:cTn id="27" nodeType="clickEffect" fill="hold">
                      <p:stCondLst>
                        <p:cond evt="onClick">
                          <p:tgtEl>
                            <p:spTgt spid="140"/>
                          </p:tgtEl>
                        </p:cond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172000" fill="hold"/>
                                        <p:tgtEl>
                                          <p:spTgt spid="14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bcbcb"/>
                </a:solidFill>
                <a:latin typeface="Times New Roman"/>
              </a:rPr>
              <a:t>What do you do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Times New Roman"/>
              </a:rPr>
              <a:t>Get them thinking about the theme, metaphors, imagery, and style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Times New Roman"/>
              </a:rPr>
              <a:t>See handou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3" descr="_x000e_sc01e773b6.jpg                                                 000AA47C_x000c_Macintosh HD                   C3E30EBA:"/>
          <p:cNvPicPr/>
          <p:nvPr/>
        </p:nvPicPr>
        <p:blipFill>
          <a:blip r:embed="rId1"/>
          <a:stretch/>
        </p:blipFill>
        <p:spPr>
          <a:xfrm>
            <a:off x="2295360" y="0"/>
            <a:ext cx="4453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bcbcb"/>
                </a:solidFill>
                <a:latin typeface="Times New Roman"/>
              </a:rPr>
              <a:t>What do you do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1001"/>
              </a:spcBef>
              <a:buClr>
                <a:srgbClr val="ffffff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Times New Roman"/>
              </a:rPr>
              <a:t>Do one together, then work in pairs to find more and fill in the handout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1001"/>
              </a:spcBef>
              <a:buClr>
                <a:srgbClr val="ffffff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Times New Roman"/>
              </a:rPr>
              <a:t>Class discusion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bcbcb"/>
                </a:solidFill>
                <a:latin typeface="Times New Roman"/>
              </a:rPr>
              <a:t>The assignmen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100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Times New Roman"/>
              </a:rPr>
              <a:t>Students choose an oda title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Times New Roman"/>
              </a:rPr>
              <a:t>	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Times New Roman"/>
              </a:rPr>
              <a:t>http://www.spsu.edu/sis/nuhfer-halten/webconcordances/neruda/nerudafrequency.txt.WebConcordance/c159.htm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bcbcb"/>
                </a:solidFill>
                <a:latin typeface="Times New Roman"/>
              </a:rPr>
              <a:t>The assignmen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Times New Roman"/>
              </a:rPr>
              <a:t>Fill in the previous worksheet for their oda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980640" indent="-52812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Times New Roman"/>
              </a:rPr>
              <a:t>them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980640" indent="-52812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Times New Roman"/>
              </a:rPr>
              <a:t>metaphor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980640" indent="-52812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Times New Roman"/>
              </a:rPr>
              <a:t>imager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980640" indent="-52812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Times New Roman"/>
              </a:rPr>
              <a:t>styl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Times New Roman"/>
              </a:rPr>
              <a:t>3.  Write the oda and illustrate it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980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6T15:50:00Z</dcterms:created>
  <dc:creator>Martha</dc:creator>
  <dc:description/>
  <dc:language>en-US</dc:language>
  <cp:lastModifiedBy>Pero, Martha</cp:lastModifiedBy>
  <cp:lastPrinted>2010-02-26T18:16:51Z</cp:lastPrinted>
  <dcterms:modified xsi:type="dcterms:W3CDTF">2013-03-07T15:57:12Z</dcterms:modified>
  <cp:revision>16</cp:revision>
  <dc:subject/>
  <dc:title>Ode to an Ode</dc:title>
</cp:coreProperties>
</file>