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8AF1-5231-4317-97BA-98FE296340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4325-92D7-4E0F-9590-AACEA79E1E7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nect to cd and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B7DF-13B1-4AB7-A4BF-FE0FE651CE6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da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918-C579-45B4-BA90-CE6CD70A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428-8B6F-4238-81B8-17DD3C4C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138-60C1-4DCF-8047-A6FF5204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3DE-DBBC-4A9E-B810-95BD4887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20B9-1F5C-4882-AF59-27E6FFCE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670-28AD-49BA-B39A-A96BD1A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77B9-00E7-49CB-9B04-CE57654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02A4-B7E7-4C38-A951-FDE068D0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669-E4FF-4D09-941B-6572C86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9BA-F5F5-475B-9596-B0ADB8A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09AA-8DAF-4A42-B897-2111151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B89-14CA-40C3-8DD3-FFF1D439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C167-70A6-4626-88B4-2F806B6D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B49C-D790-4CA4-A63E-F211B40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FA6A-BB73-4AC1-B493-3B69F54B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AF6-3ABF-4435-9DFD-94572635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832F-B661-47DA-9679-379CBCE5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F80-558F-462C-B992-A7DCE11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326-23BE-46BB-8C02-7149A049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D00-512E-4FF7-A304-5AC6450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44E-1026-4523-B794-BB309372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005-F20D-4588-8C37-E185133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9A8-9968-4EA0-BA3A-A56507F1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EDD-BA8D-4C1B-BA70-6B4CADB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Oval 5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99A3-4708-4DBA-A806-228034289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5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Oval 6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Oval 7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Oval 8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Oval 9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Oval 10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11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12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13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23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4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25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Freeform 26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8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6F0A-550E-4FF6-A74B-EE681EA4F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de to an 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057400" y="35809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tha Pero, NB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 City Schoo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dson, O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m@hudson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Read the real o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mpare and contrast the theme, metaphors and imager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_x000e_sc0002dc91.jpg                                                 0013E990_x000c_Macintosh HD                   C3E30EBA: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Using Audacity or Garageband, record the o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Odapero.mp3" descr=""/>
          <p:cNvPicPr/>
          <p:nvPr/>
        </p:nvPicPr>
        <p:blipFill>
          <a:blip r:embed="rId1"/>
          <a:stretch/>
        </p:blipFill>
        <p:spPr>
          <a:xfrm>
            <a:off x="4038480" y="4572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Free downlo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ttp://audacity.sourceforge.net/download/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Lame file for MP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C  and  Ma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http://audacity.sourceforge.net/help/faq?s=install&amp;item=lame-mp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is is necessary to make MP3 files.  Please note to where it is downloading.  The first time you use it, you will need to find it to make a link.  After that, you can forget abou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ublish on line or on your Webp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ke a booklet of the odes to give to each clas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¡Gracias por veni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Poetry in High Schoo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Difficul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Fu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Interest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e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use our book and as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isten and read Oda al tomate por Pablo Nerud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Get them thinking about the theme, metaphors, imagery, and sty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ee hand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_x000e_sc01e773b6.jpg                                                 000AA47C_x000c_Macintosh HD                   C3E30EBA:"/>
          <p:cNvPicPr/>
          <p:nvPr/>
        </p:nvPicPr>
        <p:blipFill>
          <a:blip r:embed="rId1"/>
          <a:stretch/>
        </p:blipFill>
        <p:spPr>
          <a:xfrm>
            <a:off x="2295360" y="0"/>
            <a:ext cx="445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What do you do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o one together, then work in pairs to find more and fill in the handou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lass discus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tudents choose an oda tit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su.edu/sis/nuhfer-halten/webconcordances/neruda/nerudafrequency.txt.WebConcordance/c159.htm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The assig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ill in the previous worksheet for their o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etaph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  Write the oda and illustrate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50:00Z</dcterms:created>
  <dc:creator>Martha</dc:creator>
  <dc:description/>
  <dc:language>en-US</dc:language>
  <cp:lastModifiedBy>Pero, Martha</cp:lastModifiedBy>
  <cp:lastPrinted>2010-02-26T18:16:51Z</cp:lastPrinted>
  <dcterms:modified xsi:type="dcterms:W3CDTF">2013-03-07T15:57:12Z</dcterms:modified>
  <cp:revision>16</cp:revision>
  <dc:subject/>
  <dc:title>Ode to an Ode</dc:title>
</cp:coreProperties>
</file>