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11AA-F20A-4DC4-A44E-713626D520C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192C-4004-4A21-ADB7-01E72EF70C84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nect to cd and hand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93CA-5228-4C1D-A6EE-993F6E0C3959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Oda hand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1BD6-CA99-432B-8C81-3BEEE426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EA6E-50D9-4827-96BB-8FC5431E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688-3D0F-4527-A670-BE512459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3D3B-EC03-40A6-AFA2-015AFD25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794F-0812-45E3-A794-4F1913A3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C32F-BC11-4957-A764-88ADE6B3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B72D-D6FA-40BE-87FA-D60BFD8B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F899-012B-4647-A925-FFB6D1AF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308E-F774-4EE3-919C-67EC5883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E669-6F8E-4B9A-9991-B7C7FD60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6EBB-45B9-4A40-9916-71E4BC56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508-639F-4BDC-BC9E-2B1A9B08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5343-6CA6-465D-95FE-3A8FB270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C943-2386-4249-A74E-E97B9D6D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079B-5472-4523-AB22-B77BA12D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6F70-C79B-4C93-9130-43F3C94E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4E47-7C77-4310-B572-6E101D8B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8D1C-5C20-4A5D-A2C0-D89F4333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A39E-2926-4731-A061-094D1C4C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6782-C978-45C3-8641-70C14F89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1530-37D8-4F83-9BF3-7559D4DE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8666-5381-4BB1-8FCE-8F717519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A48D-3646-4252-9E5B-B420B812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26D5-96A2-4E09-9F45-55B7026C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4538520" y="6746760"/>
            <a:ext cx="4332600" cy="65160"/>
            <a:chOff x="4538520" y="6746760"/>
            <a:chExt cx="4332600" cy="65160"/>
          </a:xfrm>
        </p:grpSpPr>
        <p:sp>
          <p:nvSpPr>
            <p:cNvPr id="3" name="Oval 5"/>
            <p:cNvSpPr/>
            <p:nvPr/>
          </p:nvSpPr>
          <p:spPr>
            <a:xfrm>
              <a:off x="4538520" y="6746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Oval 6"/>
            <p:cNvSpPr/>
            <p:nvPr/>
          </p:nvSpPr>
          <p:spPr>
            <a:xfrm>
              <a:off x="51483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575784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636732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69771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758664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196120" y="6746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80596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804960" y="117360"/>
            <a:ext cx="66600" cy="522360"/>
            <a:chOff x="804960" y="117360"/>
            <a:chExt cx="66600" cy="522360"/>
          </a:xfrm>
        </p:grpSpPr>
        <p:sp>
          <p:nvSpPr>
            <p:cNvPr id="12" name="Oval 14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383D-FE03-4409-AB62-0237F415C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Rectangle 3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" name="Group 5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0" name="Oval 6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Oval 7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Oval 8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Oval 9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Oval 10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Oval 11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Oval 12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Oval 13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14"/>
            <p:cNvGrpSpPr/>
            <p:nvPr/>
          </p:nvGrpSpPr>
          <p:grpSpPr>
            <a:xfrm>
              <a:off x="880920" y="117360"/>
              <a:ext cx="66960" cy="2124360"/>
              <a:chOff x="880920" y="117360"/>
              <a:chExt cx="66960" cy="2124360"/>
            </a:xfrm>
          </p:grpSpPr>
          <p:sp>
            <p:nvSpPr>
              <p:cNvPr id="69" name="Oval 15"/>
              <p:cNvSpPr/>
              <p:nvPr/>
            </p:nvSpPr>
            <p:spPr>
              <a:xfrm>
                <a:off x="880920" y="117360"/>
                <a:ext cx="66960" cy="669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Oval 16"/>
              <p:cNvSpPr/>
              <p:nvPr/>
            </p:nvSpPr>
            <p:spPr>
              <a:xfrm>
                <a:off x="880920" y="347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Oval 17"/>
              <p:cNvSpPr/>
              <p:nvPr/>
            </p:nvSpPr>
            <p:spPr>
              <a:xfrm>
                <a:off x="880920" y="5745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Oval 18"/>
              <p:cNvSpPr/>
              <p:nvPr/>
            </p:nvSpPr>
            <p:spPr>
              <a:xfrm>
                <a:off x="880920" y="10335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Oval 19"/>
              <p:cNvSpPr/>
              <p:nvPr/>
            </p:nvSpPr>
            <p:spPr>
              <a:xfrm>
                <a:off x="880920" y="1260360"/>
                <a:ext cx="66960" cy="669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Oval 20"/>
              <p:cNvSpPr/>
              <p:nvPr/>
            </p:nvSpPr>
            <p:spPr>
              <a:xfrm>
                <a:off x="880920" y="1490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Oval 21"/>
              <p:cNvSpPr/>
              <p:nvPr/>
            </p:nvSpPr>
            <p:spPr>
              <a:xfrm>
                <a:off x="880920" y="17175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Oval 22"/>
              <p:cNvSpPr/>
              <p:nvPr/>
            </p:nvSpPr>
            <p:spPr>
              <a:xfrm>
                <a:off x="880920" y="1947960"/>
                <a:ext cx="66960" cy="633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Oval 23"/>
              <p:cNvSpPr/>
              <p:nvPr/>
            </p:nvSpPr>
            <p:spPr>
              <a:xfrm>
                <a:off x="880920" y="21765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Oval 24"/>
              <p:cNvSpPr/>
              <p:nvPr/>
            </p:nvSpPr>
            <p:spPr>
              <a:xfrm>
                <a:off x="880920" y="804960"/>
                <a:ext cx="66960" cy="633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25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0" name="Freeform 26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Freeform 27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Freeform 28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4BA4-2176-4C64-BFFA-B3FAE6185E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Ode to an O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057400" y="35809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artha Pero, NB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udson City Schoo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udson, Oh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rom@hudson.ed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bcbcb"/>
                </a:solidFill>
                <a:latin typeface="Times New Roman"/>
              </a:rPr>
              <a:t>The assignment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Read the real od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Compare and contrast the theme, metaphors and imager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_x000e_sc0002dc91.jpg                                                 0013E990_x000c_Macintosh HD                   C3E30EBA:"/>
          <p:cNvPicPr/>
          <p:nvPr/>
        </p:nvPicPr>
        <p:blipFill>
          <a:blip r:embed="rId1"/>
          <a:stretch/>
        </p:blipFill>
        <p:spPr>
          <a:xfrm>
            <a:off x="0" y="228600"/>
            <a:ext cx="8839080" cy="61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The assign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Using Audacity or Garageband, record the od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Odapero.mp3" descr=""/>
          <p:cNvPicPr/>
          <p:nvPr/>
        </p:nvPicPr>
        <p:blipFill>
          <a:blip r:embed="rId1"/>
          <a:stretch/>
        </p:blipFill>
        <p:spPr>
          <a:xfrm>
            <a:off x="4038480" y="45720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Audacit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Free downloa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Ma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ttp://audacity.sourceforge.net/download/m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ttp://audacity.sourceforge.net/download/wind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Lame file for MP3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PC  and  Mac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http://audacity.sourceforge.net/help/faq?s=install&amp;item=lame-mp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This is necessary to make MP3 files.  Please note to where it is downloading.  The first time you use it, you will need to find it to make a link.  After that, you can forget abou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What next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Publish on line or on your Webpag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Make a booklet of the odes to give to each clas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¡Gracias por venir!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¿Pregunta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Poetry in High Schoo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Difficult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Fun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Interestin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etr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use our book and as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What do you do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Listen and read Oda al tomate por Pablo Nerud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4368960" y="3225960"/>
            <a:ext cx="406080" cy="406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4368960" y="3225960"/>
            <a:ext cx="406080" cy="40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72000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7200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What do you do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Get them thinking about the theme, metaphors, imagery, and sty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See handou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_x000e_sc01e773b6.jpg                                                 000AA47C_x000c_Macintosh HD                   C3E30EBA:"/>
          <p:cNvPicPr/>
          <p:nvPr/>
        </p:nvPicPr>
        <p:blipFill>
          <a:blip r:embed="rId1"/>
          <a:stretch/>
        </p:blipFill>
        <p:spPr>
          <a:xfrm>
            <a:off x="2295360" y="0"/>
            <a:ext cx="445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What do you do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Do one together, then work in pairs to find more and fill in the handou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Class discus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The assign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Students choose an oda tit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spsu.edu/sis/nuhfer-halten/webconcordances/neruda/nerudafrequency.txt.WebConcordance/c159.htm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The assign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Fill in the previous worksheet for their od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the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metaph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mage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sty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3.  Write the oda and illustrate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5:50:00Z</dcterms:created>
  <dc:creator>Martha</dc:creator>
  <dc:description/>
  <dc:language>en-US</dc:language>
  <cp:lastModifiedBy>Pero, Martha</cp:lastModifiedBy>
  <cp:lastPrinted>2010-02-26T18:16:51Z</cp:lastPrinted>
  <dcterms:modified xsi:type="dcterms:W3CDTF">2013-03-07T15:57:12Z</dcterms:modified>
  <cp:revision>16</cp:revision>
  <dc:subject/>
  <dc:title>Ode to an Ode</dc:title>
</cp:coreProperties>
</file>