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99B6-6730-4617-B6BB-11A27E0F5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E600-56D5-4E55-9B44-4DAD169BD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E0CB-5993-4A5C-A2F8-6B2BF9050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EC9B-506C-4B32-86F1-ACF16C2B2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2E22B-2817-4E1B-9098-5F6845A22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A4539-49CE-4283-9D1C-03B39D653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24775-6C87-4B43-98F7-0E34FFDED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D8725-9F93-427A-87E1-3E6674B3F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CCBC4-D8AB-47DD-8B92-9D1612EE4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C3E34-1A01-4392-B93B-C7B1D6914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42EA2-5F4E-410B-BEF5-23A8B86EE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8A4C-B3E2-4D8F-9787-FA379F74A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1AA20-1754-4E42-A483-EEC918999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A3237-E2D1-4494-9BC1-23F147392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B9115-4D6D-4D0A-AC6F-7E982DE35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2836D-A87F-4B92-9744-A068BA945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F9B5F-17E4-4C09-B239-B9CE29C61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7B59-80C6-41C1-B560-8177233BA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C516-838F-476D-B600-45DC92688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FDE9-4A13-4160-820F-3A641122B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013D-B953-4C7A-A2C6-B28CBFC27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F293-AA06-438D-8B66-7B32C5E6A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37C8-32CC-4749-A9E9-517C37787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8938-D8A3-445C-8E2C-C67FA16A3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3907D-9B5C-4991-84A6-8309FABE24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26FD9-A729-4D60-B099-A9064A866C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ff"/>
                </a:solidFill>
                <a:latin typeface="Arial"/>
              </a:rPr>
              <a:t>Pablo Neruda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666880" y="1905120"/>
            <a:ext cx="437040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Un poeta, escri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Posmodernismo, vanguard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Poemas de amor y las injusticias  y angustia, oda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Premio Nobel de Literatura 197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NeftalÌ Ricardo Reyes Basoal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Chile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48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Uno de los poetas más influyentes del mun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Huyó de Chile cuando Videla condenó el comunism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Político, diplomátic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Murió de cáncer - 197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6324480" y="4572000"/>
            <a:ext cx="2357640" cy="19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7T00:03:25Z</dcterms:created>
  <dc:creator>Martha</dc:creator>
  <dc:description/>
  <dc:language>en-US</dc:language>
  <cp:lastModifiedBy>Martha</cp:lastModifiedBy>
  <dcterms:modified xsi:type="dcterms:W3CDTF">2010-04-07T02:02:00Z</dcterms:modified>
  <cp:revision>2</cp:revision>
  <dc:subject/>
  <dc:title>Pablo Neruda</dc:title>
</cp:coreProperties>
</file>