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488D-4642-43F0-AA94-624240CB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9197-90D9-44C7-BF59-9C5485C0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1621-9D25-4098-842B-24784D9F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28C8-C2D4-41E1-A949-CDB51C5C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4AF9-DDEF-4D7B-AE59-DB82DC74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ABE8-78A7-4106-84CD-2F9B13BB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3619-0709-409B-A966-64D5B12B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DBBD-11BF-4D56-8F1C-05DDC484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FCAA-543D-4128-A441-9B6FD3FE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0830-1B93-4ADB-8D5D-385D8F9A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214D-D5DC-49A7-B3E3-6091163F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B14C-B8F8-4256-82DE-A7E6AB24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8DEF-49B4-443F-AC2E-FDE36440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57CF-44A4-45AC-8509-8E96F17D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30D5-EBD2-498A-A202-6AF8DBEC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6AF4-68BC-4028-99DF-FF7318DB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384A-B225-4D9E-97A5-83B0D13F6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6504-1507-49A1-BC52-D75F74B0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F961-A3EA-4250-97BA-62E97F9A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EBBF-394E-4905-B31A-A756E337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E179-C9B3-4E7F-B3FF-BC9C3752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82AD-75BF-4DE4-BFF0-1D15E5BB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D3EE-D38A-4151-8835-9512DF6F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F04D-CFF3-43ED-995E-3FD71F03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7A82-F719-49A0-B4FC-1BCCE07271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D5F4-E881-4AEB-80B5-101E960BC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Pablo Nerud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66880" y="1905120"/>
            <a:ext cx="4370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Un poeta, escr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osmodernismo, vanguar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oemas de amor y las injusticias  y angustia, od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remio Nobel de Literatura 197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NeftalÌ Ricardo Reyes Basoal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Uno de los poetas más influyentes del mu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Huyó de Chile cuando Videla condenó el comunism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olítico, diplomát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urió de cáncer - 197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324480" y="4572000"/>
            <a:ext cx="235764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0:03:25Z</dcterms:created>
  <dc:creator>Martha</dc:creator>
  <dc:description/>
  <dc:language>en-US</dc:language>
  <cp:lastModifiedBy>Martha</cp:lastModifiedBy>
  <dcterms:modified xsi:type="dcterms:W3CDTF">2010-04-07T02:02:00Z</dcterms:modified>
  <cp:revision>2</cp:revision>
  <dc:subject/>
  <dc:title>Pablo Neruda</dc:title>
</cp:coreProperties>
</file>