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989B-CDF5-4AEF-BA4B-DF9EEC123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2A22-5B2D-43C4-98DD-0E23DC2F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2452-5DCD-4508-8C5F-AD9B9F759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856B-5CA3-411C-89A7-444FCBB79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F5F0-C1EF-465E-A07F-448A8ABDF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D885-BBE1-4DA5-B79F-A23D4F93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59C6-9F4B-4FDA-BEFA-9F53EC8C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1CAD-AF7D-4441-8093-60B3B33B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3DC5-8348-4D84-80BB-69F92D08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A1F6-AF1E-46A7-93D3-F7062631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F76D-AEF6-4BA6-A994-C41FBA5D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8C31-6B5C-40D5-B7C4-0C8F2240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08D3-2040-45F8-9D9B-CD847FB0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CEFA-2B24-4CF0-A946-D5AB9B8A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C062-7583-43C6-B97E-4BC8F6B5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03EE-A507-4585-8FE3-8D51A6EED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2E6E-68EE-4085-A83F-6BFD9E921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DD55-1CBE-4DFF-B263-D6B2BD5A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526D-DA88-4187-A175-A48F01AD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C08C-1CF6-44BE-AE71-8586155F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14B3-1E3E-4C38-A575-8ED8D8E4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69BC-09A2-4E74-8E5B-7C9F385C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0B12-8438-4444-972F-03175BD1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4F03-1CBC-4B10-9F4D-BFA5CDA0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52D6-D0C7-46B1-BA41-DC72CA800B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D6BC-5AA1-4F6F-81F0-A42BB3DF0A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Pablo Nerud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666880" y="1905120"/>
            <a:ext cx="43704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Un poeta, escri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osmodernismo, vanguard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oemas de amor y las injusticias  y angustia, oda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remio Nobel de Literatura 197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NeftalÌ Ricardo Reyes Basoal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hil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8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Uno de los poetas más influyentes del mun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Huyó de Chile cuando Videla condenó el comunism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olítico, diplomát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Murió de cáncer - 197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324480" y="4572000"/>
            <a:ext cx="235764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00:03:25Z</dcterms:created>
  <dc:creator>Martha</dc:creator>
  <dc:description/>
  <dc:language>en-US</dc:language>
  <cp:lastModifiedBy>Martha</cp:lastModifiedBy>
  <dcterms:modified xsi:type="dcterms:W3CDTF">2010-04-07T02:02:00Z</dcterms:modified>
  <cp:revision>2</cp:revision>
  <dc:subject/>
  <dc:title>Pablo Neruda</dc:title>
</cp:coreProperties>
</file>