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8DB-E2F3-486C-88E2-0A755F5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053-F2A4-407A-A49F-C2589E9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6E6-DD1C-4F24-B216-5D586E86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F32-3522-4007-88AC-53EB11A7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10AA-D716-40D3-AD42-C0018252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404E-306B-4BAE-BD82-3902B2C9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29F-8EE9-4BCE-A0BA-4B16FD38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B39-1470-443C-BED3-C730D0DE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F02E-6DA2-49D0-8A75-F50D437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BEBE-BAC1-4F11-87CB-53F3C31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E791-4AC2-479E-842E-12216190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6D9-A0B9-4B3F-93F4-22652AE9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EC33-57B7-4854-B22E-71CE718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C9F5-7E39-4068-A6D1-2562644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F475-9AE5-46E1-851E-67CCA0E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706C-FA58-40B2-B474-A1156272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1C11-5F39-474A-8BBA-E90764F5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12F-00C9-49F5-991A-DB4FD9B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864-1C47-468F-A6C6-FA2A5541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A05-497D-4A1A-9DE9-70648E8C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84A-B076-4DB8-BD50-654EC09A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2FA-C3DE-4A09-874F-4661B19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682-249A-487B-92CB-57EA34A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371-757A-4148-B72A-97DB609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6844-3717-4C0E-BF06-402776F32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90C8-35B9-4675-9425-D550382E9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ablo Neru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4370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 poeta, escr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smodernismo, vanguar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emas de amor y las injusticias  y angustia, od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emio Nobel de Literatura 19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NeftalÌ Ricardo Reyes Basoal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o de los poetas más influyentes del m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uyó de Chile cuando Videla condenó el comuni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olítico, diplom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urió de cáncer -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3576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0:03:25Z</dcterms:created>
  <dc:creator>Martha</dc:creator>
  <dc:description/>
  <dc:language>en-US</dc:language>
  <cp:lastModifiedBy>Martha</cp:lastModifiedBy>
  <dcterms:modified xsi:type="dcterms:W3CDTF">2010-04-07T02:02:00Z</dcterms:modified>
  <cp:revision>2</cp:revision>
  <dc:subject/>
  <dc:title>Pablo Neruda</dc:title>
</cp:coreProperties>
</file>